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96BC5448-86B6-43C0-8316-65016A656CC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Cultural contex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Meaningful learning and motivation – new information is linked to student experience + connectedness of information – information processing theory and sch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Cf with fragmented information and “skills learning” disconnected from meaningfu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Collective perspective (Darling-Hammond, 199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nteractions with families BUT al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chool leadership and teachers all focussed on raising achievement (SEM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- Newmann in Chicago – improving reading and mathematics performance – common approach across all teachers, pd to support goal of a common approach, agreement about strategies, collaboratio about expec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3-5 opportunities to interact with a new idea (AL and n 1998) p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Non-linguis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zano – 5</a:t>
            </a:r>
            <a:r>
              <a:rPr b="0" i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largest effect-size (0.75) – especially with ESL students – p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ocial inte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dividualised and programmed instruction – effect size 0.28-.0.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ell-designed group work (but NOTE – Hohepa, McNaughton and Jenkins (1996) found less than 50% interactions to be in group situations – much use of dyadic – peer-peer; student-teacher; tuakana-teina) – p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L and N (199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Whole class learning opportunities most strongly and consistently related to long-term learning – i.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ttending to teacher demonstration and talk associated with instructional diagr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ttending to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teacher-pupil discussio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increases access for students with lower levels of literac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Learning goals transpa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Advance organis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Low achieving students can attend to neatness, presentation, compliance, social and personal concer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AL and N (1992) – many ‘on task’ behaviours of low achievers not facilitative of lear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colouring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page fr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rawing hea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itting quietly rather than interrupting the teacher (BES 5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hould not diminsh importance of low-key management strate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211400" y="2435400"/>
            <a:ext cx="288720" cy="647640"/>
          </a:xfrm>
          <a:custGeom>
            <a:avLst/>
            <a:gdLst>
              <a:gd name="textAreaLeft" fmla="*/ 38520 w 288720"/>
              <a:gd name="textAreaRight" fmla="*/ 250200 w 288720"/>
              <a:gd name="textAreaTop" fmla="*/ 113400 h 647640"/>
              <a:gd name="textAreaBottom" fmla="*/ 469800 h 64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Helen Timperley’s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Note on </a:t>
            </a: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feedback and scaffolding 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(feed-forward – Bishop; poutama, co-construction – see BES 73-7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000000"/>
                </a:solidFill>
                <a:latin typeface="Arial"/>
              </a:rPr>
              <a:t>Hattie</a:t>
            </a: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 – feedback effect size 1.13 – Mazano (0.80) - reinforcing effort and providing recogn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Effectiveness relates to impact on desired outcomes rather than values that may or may not relate to effectiveness – a sense of humour, a tough but fair task mas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Outcomes relate to AOs, essential skills, values such as respect, tolerance, fairness, compassion; attitudes towards learning.  Note Mason Durie’s outcomes for Maor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o live as Ma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o actively participate as citizens of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o enjoy good health and a high standard of living (BES p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he quality of the learning environment generated by the teacher and the students explains up to 59% of the variance in student scores.  The school effect is approximately 5 – 21% of the variation in student learning outcomes (BES pp2-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The most important factor here is the teacher (greater than class size, class composition).  Rivkin, Hanushek and Kain (2001) – attribute 7% of test score gains to differences in teachers (see Educational Researcher, 31, 9, 2002, p1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Shifts focus from what I taught to what student learned so in this sense it is positive.  Requires a judgement about value-ad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ifferences in achievement may not be linked to teaching – prior knowle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Differences in learning may not be linked to teaching – Time 1 to Time 2 – there amy be many other interventions (private tutoring) that have contributed to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Ignores the nature and contribution of the student to enhanced or diminsihed achie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Can narrow the focus on to what is easily measur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Focus shifts to the teacher – personal characteristics; particular techniques – overview summary; preferred pedagogy – discovery, direct instruction, constructiv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One size does not fit all (Lortie – we see things through our own experience) + the impact of 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Research generalisations are ambivalent – role of rewards in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Generalisations are not necessarily applicable to individual teachers or situations – e.g. Mazano – identifying similarities and differences; summarising and notetaking, reinforcing ef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200" spc="-1" strike="noStrike">
                <a:solidFill>
                  <a:srgbClr val="000000"/>
                </a:solidFill>
                <a:latin typeface="Arial"/>
              </a:rPr>
              <a:t>Jim Furyk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0597-B15A-4E6B-AF82-3D234E2A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8CA8C-E3CC-46D1-861F-E038A2FAC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389-8DD9-45D1-AE02-C9EF8CD1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3AA-B748-4A73-8F29-866EEC4F9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13C60-4942-4F64-91C3-A3F09F192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1FE7A-D539-4B72-8B07-359BB6444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C989A-6D78-4689-841B-B73FA4AA9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1838-31EF-45ED-BBD1-A4A25055E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737F-21E3-43C7-8AF0-65034D534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189E7-8B2E-4AB1-BCA1-DAB7A004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7D674-C1C6-4C15-A755-227888B9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B4CF-3DB6-45AC-8CEF-4DC780DB8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4046-B61B-4A7A-8C17-98B793ACF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6224E-CF28-4836-8F72-02029642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89314-3E72-4841-AECB-01DA44221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BD295-F4D0-4ADC-A1A1-DDD942636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F52D6-62A9-4466-8749-23F1C227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7001-6926-4B13-ACF5-275DA0C3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C808-C2C2-496D-BC61-A45CE9CA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EB26-B651-4117-9424-E5F16A68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70A6-D06E-4715-8C13-8D2F53C8D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D4A-AE39-44D1-AA12-2B227D04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A8D6-1B5E-4560-90E0-A11E95CC8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856C-4262-41A7-946F-2E4F6B839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9900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3399"/>
              </a:gs>
              <a:gs pos="100000">
                <a:srgbClr val="0000c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0000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cc"/>
              </a:gs>
              <a:gs pos="100000">
                <a:srgbClr val="00009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spcBef>
                <a:spcPts val="799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017000" indent="-20340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424160" indent="-203400">
              <a:spcBef>
                <a:spcPts val="7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830960" indent="-203400">
              <a:spcBef>
                <a:spcPts val="7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830960" indent="-2034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830960" indent="-20340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BD536-4D32-4A6D-9140-E1C4E71B848A}" type="datetime">
              <a:rPr b="0" lang="en-AU" sz="1400" spc="-1" strike="noStrike">
                <a:solidFill>
                  <a:srgbClr val="ffffff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320" y="632448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9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EB5E-8D6B-46D9-8348-D0313488E01D}" type="slidenum">
              <a:rPr b="0" lang="en-AU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ffcc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99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0000cc"/>
                  </a:gs>
                  <a:gs pos="100000">
                    <a:srgbClr val="99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3399"/>
                </a:gs>
                <a:gs pos="100000">
                  <a:srgbClr val="0000cc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0000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0000cc"/>
                </a:gs>
                <a:gs pos="100000">
                  <a:srgbClr val="00009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FC7E-518B-41D7-9DDE-CC627FDA0BDB}" type="datetime">
              <a:rPr b="0" lang="en-AU" sz="1400" spc="-1" strike="noStrike">
                <a:solidFill>
                  <a:srgbClr val="000094"/>
                </a:solidFill>
                <a:latin typeface="Tahoma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94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94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B1B0-1F8C-4429-814B-67AC75A6D5AE}" type="slidenum">
              <a:rPr b="0" lang="en-AU" sz="1400" spc="-1" strike="noStrike">
                <a:solidFill>
                  <a:srgbClr val="000094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9900ff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193ff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g.aitken@auckland.ac.nz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courses.ed.asu.edu/berliner/readings/fuss/fuss.htm" TargetMode="External"/><Relationship Id="rId2" Type="http://schemas.openxmlformats.org/officeDocument/2006/relationships/hyperlink" Target="http://courses.ed.asu.edu/berliner/readings/fuss/fuss.htm" TargetMode="Externa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cc"/>
                </a:solidFill>
                <a:latin typeface="Tahoma"/>
              </a:rPr>
              <a:t>Effective Pedagogy </a:t>
            </a:r>
            <a:br>
              <a:rPr sz="4000"/>
            </a:br>
            <a:r>
              <a:rPr b="0" lang="en-NZ" sz="4000" spc="-1" strike="noStrike">
                <a:solidFill>
                  <a:srgbClr val="ffffcc"/>
                </a:solidFill>
                <a:latin typeface="Tahoma"/>
              </a:rPr>
              <a:t>It’s Just A Matter of Tim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828800" y="2666520"/>
            <a:ext cx="6324480" cy="32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Graeme Ait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chool of Edu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e University of Aucklan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99"/>
                </a:solidFill>
                <a:uFillTx/>
                <a:latin typeface="Tahoma"/>
                <a:hlinkClick r:id="rId1"/>
              </a:rPr>
              <a:t>g.aitken@auckland.ac.nz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Based on material originally developed by Professor Viviane Robinson, School of Education, The University of Auckla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ffff"/>
                </a:solidFill>
                <a:latin typeface="Tahoma"/>
              </a:rPr>
              <a:t>Keynote Address - Team Solutions Professional Development Hui 30 January, 200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362320" y="457200"/>
          <a:ext cx="4724280" cy="7067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57200"/>
                    <a:ext cx="4724280" cy="706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oss of Time </a:t>
            </a:r>
            <a:br>
              <a:rPr sz="4400"/>
            </a:br>
            <a:r>
              <a:rPr b="0" lang="en-US" sz="1400" spc="-1" strike="noStrike">
                <a:solidFill>
                  <a:srgbClr val="ffffcc"/>
                </a:solidFill>
                <a:latin typeface="Tahoma"/>
              </a:rPr>
              <a:t>(based on </a:t>
            </a:r>
            <a:r>
              <a:rPr b="0" lang="en-NZ" sz="1400" spc="-1" strike="noStrike">
                <a:solidFill>
                  <a:srgbClr val="ffffcc"/>
                </a:solidFill>
                <a:latin typeface="Tahoma"/>
              </a:rPr>
              <a:t>Berliner, David (1990) “What’s All the Fuss About Instructional Time?” </a:t>
            </a:r>
            <a:r>
              <a:rPr b="0" lang="en-NZ" sz="1400" spc="-1" strike="noStrike" u="sng">
                <a:solidFill>
                  <a:srgbClr val="ff33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NZ" sz="1400" spc="-1" strike="noStrike" u="sng">
                <a:solidFill>
                  <a:srgbClr val="ff3399"/>
                </a:solidFill>
                <a:uFillTx/>
                <a:latin typeface="Tahoma"/>
                <a:hlinkClick r:id="rId2"/>
              </a:rPr>
              <a:t>courses.ed.asu.edu/berliner/readings/fuss/fuss.htm</a:t>
            </a:r>
            <a:endParaRPr b="0" lang="en-US" sz="1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1905120" y="2133720"/>
            <a:ext cx="6095880" cy="3962160"/>
          </a:xfrm>
          <a:prstGeom prst="rect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43200" y="2666880"/>
            <a:ext cx="4419720" cy="2819520"/>
          </a:xfrm>
          <a:prstGeom prst="rect">
            <a:avLst/>
          </a:prstGeom>
          <a:solidFill>
            <a:srgbClr val="33cc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29000" y="3200400"/>
            <a:ext cx="2971800" cy="17524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1828800"/>
            <a:ext cx="68580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16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2205000"/>
            <a:ext cx="2933640" cy="309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School</a:t>
            </a: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Loss of </a:t>
            </a:r>
            <a:r>
              <a:rPr b="1" lang="en-GB" sz="1400" spc="-1" strike="noStrike">
                <a:solidFill>
                  <a:srgbClr val="000000"/>
                </a:solidFill>
                <a:latin typeface="Garamond"/>
              </a:rPr>
              <a:t>Allocated 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3200400"/>
            <a:ext cx="609480" cy="1752480"/>
          </a:xfrm>
          <a:prstGeom prst="rect">
            <a:avLst/>
          </a:prstGeom>
          <a:solidFill>
            <a:srgbClr val="ff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3200400"/>
            <a:ext cx="685800" cy="1752480"/>
          </a:xfrm>
          <a:prstGeom prst="rect">
            <a:avLst/>
          </a:prstGeom>
          <a:solidFill>
            <a:srgbClr val="cc33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24280" y="4191120"/>
            <a:ext cx="1676520" cy="76176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3200400"/>
            <a:ext cx="1676520" cy="990720"/>
          </a:xfrm>
          <a:prstGeom prst="rect">
            <a:avLst/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84720" y="2708280"/>
            <a:ext cx="2590920" cy="3398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In-class Loss of </a:t>
            </a:r>
            <a:r>
              <a:rPr b="1" lang="en-GB" sz="1400" spc="-1" strike="noStrike">
                <a:solidFill>
                  <a:srgbClr val="000000"/>
                </a:solidFill>
                <a:latin typeface="Garamond"/>
              </a:rPr>
              <a:t>Allocated Tim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03280" y="3429000"/>
            <a:ext cx="2330640" cy="3049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Loss through lack of </a:t>
            </a:r>
            <a:r>
              <a:rPr b="1" lang="en-GB" sz="1400" spc="-1" strike="noStrike">
                <a:solidFill>
                  <a:srgbClr val="000000"/>
                </a:solidFill>
                <a:latin typeface="Garamond"/>
              </a:rPr>
              <a:t>Align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3640" y="4076640"/>
            <a:ext cx="2808360" cy="2667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Loss through lack of </a:t>
            </a:r>
            <a:r>
              <a:rPr b="1" lang="en-GB" sz="1400" spc="-1" strike="noStrike">
                <a:solidFill>
                  <a:srgbClr val="000000"/>
                </a:solidFill>
                <a:latin typeface="Garamond"/>
              </a:rPr>
              <a:t>Engageme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35640" y="4292640"/>
            <a:ext cx="1066680" cy="50472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Loss through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Low</a:t>
            </a:r>
            <a:r>
              <a:rPr b="1" lang="en-GB" sz="1400" spc="-1" strike="noStrike">
                <a:solidFill>
                  <a:srgbClr val="000000"/>
                </a:solidFill>
                <a:latin typeface="Garamond"/>
              </a:rPr>
              <a:t> Suc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952880" y="3429000"/>
            <a:ext cx="1143000" cy="4572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High Success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Garamond"/>
              </a:rPr>
              <a:t>[ALT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6019920" y="2895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3886200" y="3581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34340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3962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earning Opportunity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br>
              <a:rPr sz="4400"/>
            </a:b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( Berliner, 1987)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at part of </a:t>
            </a: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allocated time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in which students are </a:t>
            </a: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engaged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with materials or activities </a:t>
            </a: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aligned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to the outcome measures that are being used and in which students experience a high </a:t>
            </a: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success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rate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ffective Teaching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	</a:t>
            </a:r>
            <a:br>
              <a:rPr sz="4400"/>
            </a:b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(after Berliner, 1987)</a:t>
            </a: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waiting and transition </a:t>
            </a:r>
            <a:r>
              <a:rPr b="1" i="1" lang="en-AU" sz="2800" spc="-1" strike="noStrike">
                <a:solidFill>
                  <a:srgbClr val="ffffff"/>
                </a:solidFill>
                <a:latin typeface="Tahoma"/>
              </a:rPr>
              <a:t>TIME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is minimis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ctivities are </a:t>
            </a:r>
            <a:r>
              <a:rPr b="1" i="1" lang="en-AU" sz="2800" spc="-1" strike="noStrike">
                <a:solidFill>
                  <a:srgbClr val="ffffff"/>
                </a:solidFill>
                <a:latin typeface="Tahoma"/>
              </a:rPr>
              <a:t>ALIGNED</a:t>
            </a: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 to important learning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students are </a:t>
            </a:r>
            <a:r>
              <a:rPr b="1" i="1" lang="en-AU" sz="2800" spc="-1" strike="noStrike">
                <a:solidFill>
                  <a:srgbClr val="ffffff"/>
                </a:solidFill>
                <a:latin typeface="Tahoma"/>
              </a:rPr>
              <a:t>ENGAGED</a:t>
            </a:r>
            <a:r>
              <a:rPr b="1" i="1" lang="en-NZ" sz="2800" spc="-1" strike="noStrike">
                <a:solidFill>
                  <a:srgbClr val="ffffff"/>
                </a:solidFill>
                <a:latin typeface="Tahoma"/>
              </a:rPr>
              <a:t> 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behaviour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intellectual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students are experiencing a </a:t>
            </a:r>
            <a:r>
              <a:rPr b="1" i="1" lang="en-AU" sz="2800" spc="-1" strike="noStrike">
                <a:solidFill>
                  <a:srgbClr val="ffffff"/>
                </a:solidFill>
                <a:latin typeface="Tahoma"/>
              </a:rPr>
              <a:t>HIGH LEVEL OF SUCCES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Best Evidence Synthesi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ystematic review of evidenc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Linked to outc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International and N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Meta-analy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Case stud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en characterist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Interrel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OTL and B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692360" y="1989000"/>
          <a:ext cx="6702480" cy="4535640"/>
        </p:xfrm>
        <a:graphic>
          <a:graphicData uri="http://schemas.openxmlformats.org/drawingml/2006/table">
            <a:tbl>
              <a:tblPr/>
              <a:tblGrid>
                <a:gridCol w="1301760"/>
                <a:gridCol w="540072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pportunities to Learn (5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rganisation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Of curriculum and school practices (7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5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lignment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tween content and cultural contexts (3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tween teaching intentions and assessment (10 – goal oriented assessment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etween curriculum, task design and resources (7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y developing a “collective perspective” (7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1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ngagement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gniti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y linking learning to cultural contexts (3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y responding to the way students learn in a curriculum area (4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y provision of multiple task contexts (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y promoting meta-cognition (9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ffective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y linking learning to cultural contexts (3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y creating caring, inclusive communities (2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y promoting a “learning orientation” (9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8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ccess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rough scaffolding and feedback (8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rough provision of multiple task contexts (6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rough a focus on student achievement (1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rough promoting student self-regulation (9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hrough goal-oriented assessment (10)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Organis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Of curriculum and school practices (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FOR EXA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ahoma"/>
              </a:rPr>
              <a:t>evaluate impacts on ALLOCATED TIME o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3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breaks - timing, leng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assembl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Tahoma"/>
              </a:rPr>
              <a:t>co-curricular expec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Alignmen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tween content and cultural contexts (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tween teaching intentions and assessment (10 – goal oriented assess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tween curriculum, task design and resources (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ahoma"/>
              </a:rPr>
              <a:t>By developing a “collective perspective” (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FOR EXAM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ebate outcomes (relative importance, big idea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hared strategies and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3573360"/>
            <a:ext cx="865080" cy="1224000"/>
          </a:xfrm>
          <a:custGeom>
            <a:avLst/>
            <a:gdLst>
              <a:gd name="textAreaLeft" fmla="*/ 115920 w 865080"/>
              <a:gd name="textAreaRight" fmla="*/ 749160 w 865080"/>
              <a:gd name="textAreaTop" fmla="*/ 214200 h 1224000"/>
              <a:gd name="textAreaBottom" fmla="*/ 8874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35280" y="4869000"/>
            <a:ext cx="6337080" cy="17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NZ" sz="2000" spc="-1" strike="noStrike">
                <a:solidFill>
                  <a:srgbClr val="ffffff"/>
                </a:solidFill>
                <a:latin typeface="Tahoma"/>
              </a:rPr>
              <a:t>Let the main ideas which are introduced into a child‘s education be few and important and let them be thrown into every combination possible” (A.N. Whitehead)</a:t>
            </a:r>
            <a:r>
              <a:rPr b="1" lang="en-A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Engagement - cogniti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y linking learning to cultural contexts (3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y responding to the way students learn in a curriculum area (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ahoma"/>
              </a:rPr>
              <a:t>By provision of multiple task contexts (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y promoting meta-cognition (9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FOR EXAM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Dense and recurrent acc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Non-linguistic represen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Social intera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3284640"/>
            <a:ext cx="718920" cy="1439640"/>
          </a:xfrm>
          <a:custGeom>
            <a:avLst/>
            <a:gdLst>
              <a:gd name="textAreaLeft" fmla="*/ 96120 w 718920"/>
              <a:gd name="textAreaRight" fmla="*/ 622800 w 718920"/>
              <a:gd name="textAreaTop" fmla="*/ 252000 h 1439640"/>
              <a:gd name="textAreaBottom" fmla="*/ 10440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Engagement - affectiv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y linking learning to cultural contexts (3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y creating caring, inclusive communities (2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ffffff"/>
                </a:solidFill>
                <a:latin typeface="Tahoma"/>
              </a:rPr>
              <a:t>By promoting a “learning orientation” (9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FOR EXAMP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Make learning (academic) goals transpar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Self regu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sk questions and make mistak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1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3141720"/>
            <a:ext cx="718920" cy="1439640"/>
          </a:xfrm>
          <a:custGeom>
            <a:avLst/>
            <a:gdLst>
              <a:gd name="textAreaLeft" fmla="*/ 96120 w 718920"/>
              <a:gd name="textAreaRight" fmla="*/ 622800 w 718920"/>
              <a:gd name="textAreaTop" fmla="*/ 252000 h 1439640"/>
              <a:gd name="textAreaBottom" fmla="*/ 10440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240" y="685440"/>
            <a:ext cx="748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Over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57400"/>
            <a:ext cx="777240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wo common but flawed views of teaching effectiven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eaching effectiveness as provision of </a:t>
            </a: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opportunities to lea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Key </a:t>
            </a: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concepts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 associated with opportunities to lea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ffffff"/>
                </a:solidFill>
                <a:latin typeface="Tahoma"/>
              </a:rPr>
              <a:t>Links </a:t>
            </a: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between these concepts and the </a:t>
            </a:r>
            <a:r>
              <a:rPr b="0" i="1" lang="en-NZ" sz="3200" spc="-1" strike="noStrike">
                <a:solidFill>
                  <a:srgbClr val="ffffff"/>
                </a:solidFill>
                <a:latin typeface="Tahoma"/>
              </a:rPr>
              <a:t>Best Evidence Syn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Succ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rough scaffolding and feedback (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rough provision of multiple task contexts (6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ahoma"/>
              </a:rPr>
              <a:t>Through a focus on student achievement (1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hrough goal-oriented assessment (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Tahoma"/>
              </a:rPr>
              <a:t>FOR EXAMP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Tahoma"/>
              </a:rPr>
              <a:t>Collect accurate and co-ordinated assessment information relevant to priority outcom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Tahoma"/>
              </a:rPr>
              <a:t>Implications for own and others</a:t>
            </a:r>
            <a:r>
              <a:rPr b="0" i="1" lang="en-NZ" sz="24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i="1" lang="en-AU" sz="2400" spc="-1" strike="noStrike">
                <a:solidFill>
                  <a:srgbClr val="ffffff"/>
                </a:solidFill>
                <a:latin typeface="Tahoma"/>
              </a:rPr>
              <a:t> teach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ffffff"/>
                </a:solidFill>
                <a:latin typeface="Tahoma"/>
              </a:rPr>
              <a:t>Identify good practice across a group of teach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324000" y="2924280"/>
            <a:ext cx="718920" cy="1511280"/>
          </a:xfrm>
          <a:custGeom>
            <a:avLst/>
            <a:gdLst>
              <a:gd name="textAreaLeft" fmla="*/ 96120 w 718920"/>
              <a:gd name="textAreaRight" fmla="*/ 622800 w 718920"/>
              <a:gd name="textAreaTop" fmla="*/ 264240 h 1511280"/>
              <a:gd name="textAreaBottom" fmla="*/ 10958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3193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In summary 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ffective teaching is identified through the </a:t>
            </a: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response of </a:t>
            </a:r>
            <a:r>
              <a:rPr b="1" lang="en-AU" sz="32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Motivational a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ntellectu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Rather than through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Strategies and intentions of 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1080" y="121896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“</a:t>
            </a: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Effective” “good” “teacher” “teaching”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492280"/>
            <a:ext cx="7772400" cy="364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impact on </a:t>
            </a: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desired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cademi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soci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val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ttitudes to lear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59% vari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THE</a:t>
            </a: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 most important fa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Outcomes Approa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Outpu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Value ad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Link to teach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Achievement – prior knowled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ff"/>
                </a:solidFill>
                <a:latin typeface="Tahoma"/>
              </a:rPr>
              <a:t>Learning – T1 to T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Student’s contrib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Measurable fo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Style Based Approac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Personal sty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Techniqu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Pedagogical approa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ff"/>
                </a:solidFill>
                <a:latin typeface="Tahoma"/>
              </a:rPr>
              <a:t>Proble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Different contex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Clear research generalisa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ffff"/>
                </a:solidFill>
                <a:latin typeface="Tahoma"/>
              </a:rPr>
              <a:t>Generalisations discriminate against individu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A Comment on Styl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7123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achers can teach however they like, as long as it is ethical and effective in imparting valuable learning, within applicable curriculum and resource constraints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criven, 1994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1066320"/>
            <a:ext cx="687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Defining Teaching Effectivenes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2743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be based on a preferred styl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NKED to, but NOT JUDGED by, how much students lea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DGED by the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quality of the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learning opportuniti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rovided by teach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ffffcc"/>
                </a:solidFill>
                <a:latin typeface="Tahoma"/>
              </a:rPr>
              <a:t>Quality Learning Opportuniti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KEY Princi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THREE Concep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Align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Eng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ffff"/>
                </a:solidFill>
                <a:latin typeface="Tahoma"/>
              </a:rPr>
              <a:t>Suc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1752480" y="533520"/>
          <a:ext cx="6534360" cy="831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33520"/>
                    <a:ext cx="6534360" cy="83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6T05:45:30Z</dcterms:created>
  <dc:creator>School of Education</dc:creator>
  <dc:description/>
  <dc:language>en-US</dc:language>
  <cp:lastModifiedBy>John Pipe</cp:lastModifiedBy>
  <cp:lastPrinted>2002-03-31T19:16:34Z</cp:lastPrinted>
  <dcterms:modified xsi:type="dcterms:W3CDTF">2010-07-11T05:57:19Z</dcterms:modified>
  <cp:revision>82</cp:revision>
  <dc:subject/>
  <dc:title>Measuring for Excellen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93836466</vt:r8>
  </property>
  <property fmtid="{D5CDD505-2E9C-101B-9397-08002B2CF9AE}" pid="3" name="_AuthorEmail">
    <vt:lpwstr>g.aitken@auckland.ac.nz</vt:lpwstr>
  </property>
  <property fmtid="{D5CDD505-2E9C-101B-9397-08002B2CF9AE}" pid="4" name="_AuthorEmailDisplayName">
    <vt:lpwstr>Graeme Aitken (FOA EDU)</vt:lpwstr>
  </property>
  <property fmtid="{D5CDD505-2E9C-101B-9397-08002B2CF9AE}" pid="5" name="_EmailSubject">
    <vt:lpwstr>TEAM Solutions AV/IT requirements</vt:lpwstr>
  </property>
</Properties>
</file>